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AE2B-22AA-4AF4-A9BC-E3F5DDDDD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33F-F5A8-4E22-964D-CA65BFCE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117E-1B4A-4015-AE67-C75B8E420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F1F6-014B-4313-9AD1-C92906A2A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3C0-30F9-4E9E-899A-890EDC1BD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948-8EE7-4303-B561-60CB36D5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BE8B-36DC-4DBD-B041-838F3FA72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E55D-3CA7-4A2F-AB09-AEB3D42C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76F-F570-4E8E-B825-6C574851C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8E2-D8AF-4D5B-81BD-256476A5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C25B-29E1-4B63-AA04-91BB1973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C0A4-11AD-49EB-B8B9-7B5D870C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241FF2E-BC03-4156-96ED-9D48F7A37A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120" cy="593280"/>
            <a:chOff x="2013120" y="1668600"/>
            <a:chExt cx="501120" cy="59328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5560"/>
            <a:ext cx="1800" cy="2163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8480"/>
            <a:ext cx="129564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70028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120" cy="593280"/>
            <a:chOff x="6046920" y="1668600"/>
            <a:chExt cx="501120" cy="59328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59760" cy="5184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560" cy="5364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280" bIns="-8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4600"/>
            <a:ext cx="406440" cy="357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492360" y="1915920"/>
            <a:ext cx="503280" cy="1153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995640" y="1916280"/>
            <a:ext cx="1800" cy="14666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6974600">
            <a:off x="3647520" y="2325240"/>
            <a:ext cx="279720" cy="28908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81284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38400" y="338148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983040" y="307512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79400" y="1601640"/>
            <a:ext cx="92556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992040" y="1601640"/>
            <a:ext cx="42732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411800" y="160452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052800" y="1902960"/>
            <a:ext cx="1440" cy="14670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049560" y="1908000"/>
            <a:ext cx="959040" cy="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9560" y="1592280"/>
            <a:ext cx="42696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64204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09132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i="1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 flipV="1">
            <a:off x="3492360" y="1050480"/>
            <a:ext cx="1800" cy="2019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049120" y="3068640"/>
            <a:ext cx="144468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1120000">
            <a:off x="291600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492360" y="2274480"/>
            <a:ext cx="935280" cy="79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427640" y="2274480"/>
            <a:ext cx="1440" cy="144324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4924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427640" y="1843200"/>
            <a:ext cx="504720" cy="4348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8484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01800" y="3933720"/>
            <a:ext cx="2311560" cy="1724400"/>
            <a:chOff x="2701800" y="3933720"/>
            <a:chExt cx="2311560" cy="1724400"/>
          </a:xfrm>
        </p:grpSpPr>
        <p:sp>
          <p:nvSpPr>
            <p:cNvPr id="109" name=""/>
            <p:cNvSpPr/>
            <p:nvPr/>
          </p:nvSpPr>
          <p:spPr>
            <a:xfrm flipV="1">
              <a:off x="352188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2188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013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70180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82168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1816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90068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3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9900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628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270080" y="3933720"/>
            <a:ext cx="2311200" cy="1724400"/>
            <a:chOff x="1270080" y="3933720"/>
            <a:chExt cx="2311200" cy="1724400"/>
          </a:xfrm>
        </p:grpSpPr>
        <p:sp>
          <p:nvSpPr>
            <p:cNvPr id="134" name=""/>
            <p:cNvSpPr/>
            <p:nvPr/>
          </p:nvSpPr>
          <p:spPr>
            <a:xfrm flipV="1">
              <a:off x="2088360" y="4034880"/>
              <a:ext cx="1440" cy="976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088360" y="5010120"/>
              <a:ext cx="12164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0692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70080" y="5289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389960" y="5010120"/>
              <a:ext cx="699480" cy="497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86080" y="4907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468600" y="2119320"/>
            <a:ext cx="183060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4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6692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17420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27080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458040" y="2119320"/>
            <a:ext cx="1830240" cy="1309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6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156360" y="2923560"/>
              <a:ext cx="201456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63640" y="2276640"/>
              <a:ext cx="108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21116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flipV="1">
            <a:off x="6567120" y="3529080"/>
            <a:ext cx="663480" cy="6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flipV="1">
            <a:off x="4929120" y="4176720"/>
            <a:ext cx="44784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